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80D-BD49-4AC4-B721-B0457E2B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192-2DAA-4FE2-9BF2-B5D130B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3E5-6426-4361-B8E4-403BAD92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CE8-67BE-4DC8-81BD-DC7B6DA8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C5F-5BBE-41AB-9367-5826618F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EAFA-A7AE-41F7-82E9-3FA995C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94F-D042-4DF6-A967-2929F83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0B87-7E54-4D68-9A43-D10C441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0983-1BE0-4C87-B758-20759E6F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584-BEF0-4CE7-8915-3742A5C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B55-1A86-48A7-899D-352B366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612-7FE5-4651-ADB6-43F2433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7AB0-A6CB-4EF1-B6A9-129C282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9D3F-D341-408C-AA6C-350B03C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72CD-F5C6-4BF3-988D-3F49E3DF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3814-EF5F-479B-A700-32486238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CEDD-A654-4498-B7D1-3DB98D1E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7C7-E889-4B96-B40C-8FAD9FA9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442-10F1-4E06-B057-623F234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927-8463-4007-B95F-C9A78415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D8D-9007-42CE-9AEC-792E03A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D62-D160-4449-8757-551D631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11B-4221-4D1D-9179-FE2B9BE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D15-59FF-431E-ABF2-AAD42FA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3BA6-BF8C-4DA5-9665-55C1967AA43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9B5-2B61-4E8D-9B41-E823673C19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5e is learning about pol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ar a S.R.B.A vest to  protect them from someone trying to stab th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wear special meeting uniforms for when they go to a meet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759800" y="4498920"/>
            <a:ext cx="1384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have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and cuffs and hand cuff key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ey also have guns and taz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pper spra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dog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come from a lit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specially train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dogs are German shephe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J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Jail is a place where bad people go to learn to be g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50920" y="40006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olice vehicl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olice cars are just like normal c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hank you for watchi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My power poi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jordy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0:00:27Z</dcterms:created>
  <dc:creator>5e15</dc:creator>
  <dc:description/>
  <dc:language>en-US</dc:language>
  <cp:lastModifiedBy>5e15</cp:lastModifiedBy>
  <dcterms:modified xsi:type="dcterms:W3CDTF">2011-09-20T23:08:25Z</dcterms:modified>
  <cp:revision>6</cp:revision>
  <dc:subject/>
  <dc:title>police</dc:title>
</cp:coreProperties>
</file>